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8094-AAA6-406A-837E-577DC382542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410A-67C4-4578-AD0B-D481081913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0FD-8CD8-42BA-8294-B87EC78F35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7B49-C1E2-4E1C-A805-8670E5B245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B704-D434-4141-A727-3F2E4E5EAD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1655-BBE9-409D-9378-9D2E3B9B16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1BA-6A77-4CA3-815C-56AF1FB5AB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6F04-C6B0-4CDB-9B84-25872B9D93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44A1-A8AC-4EE4-A47E-A6D272ABC6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5DE0-0185-48E5-97DD-D4D7A564FB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DB0E1-E3DF-45CA-A327-B1365DA469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ABA5-DB20-4102-BCC2-234503658C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2D122-E8D3-45DC-887F-C69296DEF2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701B-3573-44FB-88E8-E233491DD0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EF546-C94C-4AD8-810E-D673FF117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E4A9-90C8-4342-B9D2-84B63D0C11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3BE21-7088-4D8E-9DED-CABA79051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33C8-56EB-4624-B6F6-14BCB49A0D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9CA92-B2EC-4D2E-8B2C-AE2808B9D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6DF2-57FB-4E0B-8A9C-A74C1BF95B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7A1CB-DA85-40BF-A9B4-258B6D943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3884760" y="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FF3A-B906-49F8-A729-8D96B62213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7E8-A7B8-4A16-8CDB-DDC26BC2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620-05A7-4783-A286-8E974DA8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0CB-F571-49E3-9344-0AC660A3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56A-4073-4B9B-872F-A3A3FABC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A36-E3FA-435B-A0C6-A145E31A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2C5-988E-4AD1-A160-1F5132F4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6A1-45F0-4458-84B8-647A71B0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824-F54D-407D-A929-4955A387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471-C9C0-4E6A-B53E-518CA556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934-7E35-42BC-B1DD-C6DE17D2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81C-FAB3-4195-B1FD-0DC161FA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5D7-BCC0-400F-B4D3-17A46134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6967-EC1E-4789-AA3D-96D314303C74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unoff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.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a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A very simple runoff model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23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Grid of Cells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Height 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88" name="Picture 2" descr="Screen Shot 2013-05-22 at 15.26.25.png"/>
          <p:cNvPicPr/>
          <p:nvPr/>
        </p:nvPicPr>
        <p:blipFill>
          <a:blip r:embed="rId1"/>
          <a:stretch/>
        </p:blipFill>
        <p:spPr>
          <a:xfrm>
            <a:off x="1835280" y="1197000"/>
            <a:ext cx="56862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81532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itial state </a:t>
            </a: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–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Rain in the heighest cel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90" name="Picture 4" descr="Screen Shot 2013-05-22 at 15.26.25.png"/>
          <p:cNvPicPr/>
          <p:nvPr/>
        </p:nvPicPr>
        <p:blipFill>
          <a:blip r:embed="rId1"/>
          <a:stretch/>
        </p:blipFill>
        <p:spPr>
          <a:xfrm>
            <a:off x="393840" y="1568520"/>
            <a:ext cx="4394160" cy="4362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Screen Shot 2013-05-22 at 15.42.39.png"/>
          <p:cNvPicPr/>
          <p:nvPr/>
        </p:nvPicPr>
        <p:blipFill>
          <a:blip r:embed="rId2"/>
          <a:stretch/>
        </p:blipFill>
        <p:spPr>
          <a:xfrm>
            <a:off x="4788000" y="1627200"/>
            <a:ext cx="4248000" cy="42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Rectangle 3"/>
          <p:cNvSpPr/>
          <p:nvPr/>
        </p:nvSpPr>
        <p:spPr>
          <a:xfrm>
            <a:off x="468360" y="6049800"/>
            <a:ext cx="8534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1000mm of rain in the cells above 200m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Neighborhood </a:t>
            </a:r>
            <a:r>
              <a:rPr b="1" lang="en-US" sz="2800" spc="-1" strike="noStrike">
                <a:solidFill>
                  <a:srgbClr val="003366"/>
                </a:solidFill>
                <a:latin typeface="ZapfHumnst BT"/>
              </a:rPr>
              <a:t>–</a:t>
            </a: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 based on height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4" name="Rectangle 24"/>
          <p:cNvSpPr/>
          <p:nvPr/>
        </p:nvSpPr>
        <p:spPr>
          <a:xfrm>
            <a:off x="289260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3971880" y="186840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3971880" y="2955960"/>
            <a:ext cx="107964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3971880" y="4049640"/>
            <a:ext cx="107964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5051520" y="186840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505152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8"/>
          <p:cNvSpPr/>
          <p:nvPr/>
        </p:nvSpPr>
        <p:spPr>
          <a:xfrm>
            <a:off x="505152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2897280" y="2955960"/>
            <a:ext cx="1079280" cy="10983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2897280" y="4049640"/>
            <a:ext cx="1079280" cy="109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2"/>
          <p:cNvCxnSpPr/>
          <p:nvPr/>
        </p:nvCxnSpPr>
        <p:spPr>
          <a:xfrm flipH="1">
            <a:off x="3450960" y="3504960"/>
            <a:ext cx="108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4" name="Straight Arrow Connector 16"/>
          <p:cNvCxnSpPr/>
          <p:nvPr/>
        </p:nvCxnSpPr>
        <p:spPr>
          <a:xfrm>
            <a:off x="4511160" y="3500280"/>
            <a:ext cx="1080" cy="109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5" name="Straight Arrow Connector 19"/>
          <p:cNvCxnSpPr/>
          <p:nvPr/>
        </p:nvCxnSpPr>
        <p:spPr>
          <a:xfrm flipH="1">
            <a:off x="3492000" y="3500280"/>
            <a:ext cx="1021680" cy="1153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316" name="Rectangle 3"/>
          <p:cNvSpPr/>
          <p:nvPr/>
        </p:nvSpPr>
        <p:spPr>
          <a:xfrm>
            <a:off x="609480" y="5834160"/>
            <a:ext cx="85345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ote that the process takes place in parallel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States and trans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1619280" y="2427120"/>
            <a:ext cx="21607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7"/>
          <p:cNvSpPr/>
          <p:nvPr/>
        </p:nvSpPr>
        <p:spPr>
          <a:xfrm>
            <a:off x="5292720" y="2427120"/>
            <a:ext cx="21589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Cambria"/>
              </a:rPr>
              <a:t>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Curved Connector 4"/>
          <p:cNvCxnSpPr>
            <a:stCxn id="318" idx="0"/>
            <a:endCxn id="319" idx="0"/>
          </p:cNvCxnSpPr>
          <p:nvPr/>
        </p:nvCxnSpPr>
        <p:spPr>
          <a:xfrm flipH="1" flipV="1" rot="5400000">
            <a:off x="4535280" y="590760"/>
            <a:ext cx="13320" cy="3672360"/>
          </a:xfrm>
          <a:prstGeom prst="curvedConnector5">
            <a:avLst>
              <a:gd name="adj1" fmla="val 4625000"/>
              <a:gd name="adj2" fmla="val 50000"/>
              <a:gd name="adj3" fmla="val 4625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1" name="Curved Connector 62"/>
          <p:cNvCxnSpPr>
            <a:stCxn id="319" idx="4"/>
            <a:endCxn id="318" idx="4"/>
          </p:cNvCxnSpPr>
          <p:nvPr/>
        </p:nvCxnSpPr>
        <p:spPr>
          <a:xfrm rot="5400000">
            <a:off x="4535640" y="1599120"/>
            <a:ext cx="13320" cy="3672360"/>
          </a:xfrm>
          <a:prstGeom prst="curvedConnector5">
            <a:avLst>
              <a:gd name="adj1" fmla="val 3538888"/>
              <a:gd name="adj2" fmla="val 50000"/>
              <a:gd name="adj3" fmla="val 353888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2" name="Rectangle 3"/>
          <p:cNvSpPr/>
          <p:nvPr/>
        </p:nvSpPr>
        <p:spPr>
          <a:xfrm>
            <a:off x="609480" y="4754520"/>
            <a:ext cx="8283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is the behavior of each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Are both states necess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Relaxing cellular automata defini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24" name="Rectangle 3" descr=""/>
          <p:cNvPicPr/>
          <p:nvPr/>
        </p:nvPicPr>
        <p:blipFill>
          <a:blip r:embed="rId1"/>
          <a:stretch/>
        </p:blipFill>
        <p:spPr>
          <a:xfrm>
            <a:off x="609480" y="2011320"/>
            <a:ext cx="8285400" cy="473076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326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Questions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How to verify whether the model is correctly implem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What are the limitations of this mod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ZapfHumnst BT"/>
              </a:rPr>
              <a:t>How can geospatial data feed CA models?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28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Grid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Neighbourho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discrete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Finite set of transiti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Discret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1"/>
          <p:cNvGrpSpPr/>
          <p:nvPr/>
        </p:nvGrpSpPr>
        <p:grpSpPr>
          <a:xfrm>
            <a:off x="5940360" y="1844640"/>
            <a:ext cx="2592360" cy="2676600"/>
            <a:chOff x="5940360" y="1844640"/>
            <a:chExt cx="2592360" cy="2676600"/>
          </a:xfrm>
        </p:grpSpPr>
        <p:sp>
          <p:nvSpPr>
            <p:cNvPr id="111" name="Rectangle 4"/>
            <p:cNvSpPr/>
            <p:nvPr/>
          </p:nvSpPr>
          <p:spPr>
            <a:xfrm>
              <a:off x="594036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372000" y="184464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4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>
              <a:off x="6804000" y="184464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"/>
            <p:cNvSpPr/>
            <p:nvPr/>
          </p:nvSpPr>
          <p:spPr>
            <a:xfrm>
              <a:off x="6804000" y="22906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>
              <a:off x="6804000" y="273672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6804000" y="3205080"/>
              <a:ext cx="4334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723744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3"/>
            <p:cNvSpPr/>
            <p:nvPr/>
          </p:nvSpPr>
          <p:spPr>
            <a:xfrm>
              <a:off x="723744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723744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5"/>
            <p:cNvSpPr/>
            <p:nvPr/>
          </p:nvSpPr>
          <p:spPr>
            <a:xfrm>
              <a:off x="7237440" y="3198960"/>
              <a:ext cx="431640" cy="446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6"/>
            <p:cNvSpPr/>
            <p:nvPr/>
          </p:nvSpPr>
          <p:spPr>
            <a:xfrm>
              <a:off x="723744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7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8"/>
            <p:cNvSpPr/>
            <p:nvPr/>
          </p:nvSpPr>
          <p:spPr>
            <a:xfrm>
              <a:off x="7669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9"/>
            <p:cNvSpPr/>
            <p:nvPr/>
          </p:nvSpPr>
          <p:spPr>
            <a:xfrm>
              <a:off x="7669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0"/>
            <p:cNvSpPr/>
            <p:nvPr/>
          </p:nvSpPr>
          <p:spPr>
            <a:xfrm>
              <a:off x="7669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1"/>
            <p:cNvSpPr/>
            <p:nvPr/>
          </p:nvSpPr>
          <p:spPr>
            <a:xfrm>
              <a:off x="7669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2"/>
            <p:cNvSpPr/>
            <p:nvPr/>
          </p:nvSpPr>
          <p:spPr>
            <a:xfrm>
              <a:off x="7669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3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4"/>
            <p:cNvSpPr/>
            <p:nvPr/>
          </p:nvSpPr>
          <p:spPr>
            <a:xfrm>
              <a:off x="8101080" y="184464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5"/>
            <p:cNvSpPr/>
            <p:nvPr/>
          </p:nvSpPr>
          <p:spPr>
            <a:xfrm>
              <a:off x="8101080" y="229068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6"/>
            <p:cNvSpPr/>
            <p:nvPr/>
          </p:nvSpPr>
          <p:spPr>
            <a:xfrm>
              <a:off x="8101080" y="27367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7"/>
            <p:cNvSpPr/>
            <p:nvPr/>
          </p:nvSpPr>
          <p:spPr>
            <a:xfrm>
              <a:off x="8101080" y="318312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8"/>
            <p:cNvSpPr/>
            <p:nvPr/>
          </p:nvSpPr>
          <p:spPr>
            <a:xfrm>
              <a:off x="8101080" y="3629160"/>
              <a:ext cx="431640" cy="4460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9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37200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1"/>
            <p:cNvSpPr/>
            <p:nvPr/>
          </p:nvSpPr>
          <p:spPr>
            <a:xfrm>
              <a:off x="5940360" y="2290680"/>
              <a:ext cx="431640" cy="446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2"/>
            <p:cNvSpPr/>
            <p:nvPr/>
          </p:nvSpPr>
          <p:spPr>
            <a:xfrm>
              <a:off x="594036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594036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"/>
            <p:cNvSpPr/>
            <p:nvPr/>
          </p:nvSpPr>
          <p:spPr>
            <a:xfrm>
              <a:off x="594036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5"/>
            <p:cNvSpPr/>
            <p:nvPr/>
          </p:nvSpPr>
          <p:spPr>
            <a:xfrm>
              <a:off x="594036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6372000" y="27367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7"/>
            <p:cNvSpPr/>
            <p:nvPr/>
          </p:nvSpPr>
          <p:spPr>
            <a:xfrm>
              <a:off x="6372000" y="318312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8"/>
            <p:cNvSpPr/>
            <p:nvPr/>
          </p:nvSpPr>
          <p:spPr>
            <a:xfrm>
              <a:off x="6372000" y="362916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6804000" y="362916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0"/>
            <p:cNvSpPr/>
            <p:nvPr/>
          </p:nvSpPr>
          <p:spPr>
            <a:xfrm>
              <a:off x="6804000" y="4075200"/>
              <a:ext cx="4334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1"/>
            <p:cNvSpPr/>
            <p:nvPr/>
          </p:nvSpPr>
          <p:spPr>
            <a:xfrm>
              <a:off x="723744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2"/>
            <p:cNvSpPr/>
            <p:nvPr/>
          </p:nvSpPr>
          <p:spPr>
            <a:xfrm>
              <a:off x="7669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3"/>
            <p:cNvSpPr/>
            <p:nvPr/>
          </p:nvSpPr>
          <p:spPr>
            <a:xfrm>
              <a:off x="810108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4"/>
            <p:cNvSpPr/>
            <p:nvPr/>
          </p:nvSpPr>
          <p:spPr>
            <a:xfrm>
              <a:off x="6372000" y="4075200"/>
              <a:ext cx="431640" cy="446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60640" y="0"/>
            <a:ext cx="682596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584000" y="530208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z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6084720" y="2708280"/>
            <a:ext cx="266760" cy="1820880"/>
          </a:xfrm>
          <a:custGeom>
            <a:avLst/>
            <a:gdLst/>
            <a:ahLst/>
            <a:rect l="l" t="t" r="r" b="b"/>
            <a:pathLst>
              <a:path w="130" h="1018">
                <a:moveTo>
                  <a:pt x="111" y="1005"/>
                </a:moveTo>
                <a:cubicBezTo>
                  <a:pt x="63" y="960"/>
                  <a:pt x="130" y="1018"/>
                  <a:pt x="73" y="983"/>
                </a:cubicBezTo>
                <a:cubicBezTo>
                  <a:pt x="24" y="952"/>
                  <a:pt x="96" y="979"/>
                  <a:pt x="35" y="960"/>
                </a:cubicBezTo>
                <a:cubicBezTo>
                  <a:pt x="0" y="860"/>
                  <a:pt x="7" y="956"/>
                  <a:pt x="20" y="748"/>
                </a:cubicBezTo>
                <a:cubicBezTo>
                  <a:pt x="25" y="669"/>
                  <a:pt x="6" y="684"/>
                  <a:pt x="58" y="672"/>
                </a:cubicBezTo>
                <a:cubicBezTo>
                  <a:pt x="65" y="649"/>
                  <a:pt x="80" y="604"/>
                  <a:pt x="80" y="604"/>
                </a:cubicBezTo>
                <a:cubicBezTo>
                  <a:pt x="83" y="566"/>
                  <a:pt x="84" y="528"/>
                  <a:pt x="88" y="490"/>
                </a:cubicBezTo>
                <a:cubicBezTo>
                  <a:pt x="91" y="466"/>
                  <a:pt x="111" y="422"/>
                  <a:pt x="111" y="422"/>
                </a:cubicBezTo>
                <a:cubicBezTo>
                  <a:pt x="105" y="345"/>
                  <a:pt x="98" y="269"/>
                  <a:pt x="80" y="194"/>
                </a:cubicBezTo>
                <a:cubicBezTo>
                  <a:pt x="71" y="158"/>
                  <a:pt x="70" y="122"/>
                  <a:pt x="42" y="96"/>
                </a:cubicBezTo>
                <a:cubicBezTo>
                  <a:pt x="40" y="81"/>
                  <a:pt x="37" y="45"/>
                  <a:pt x="27" y="28"/>
                </a:cubicBezTo>
                <a:cubicBezTo>
                  <a:pt x="10" y="0"/>
                  <a:pt x="12" y="8"/>
                  <a:pt x="12" y="2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 flipH="1" flipV="1">
            <a:off x="6501960" y="3919320"/>
            <a:ext cx="917640" cy="132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940720" y="52214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inhaço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-538200" y="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927920" y="-1440"/>
            <a:ext cx="172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-1073160" y="0"/>
            <a:ext cx="10401480" cy="6926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490320" y="501336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nas Gerais State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5854680" y="522360"/>
            <a:ext cx="611280" cy="3243240"/>
          </a:xfrm>
          <a:custGeom>
            <a:avLst/>
            <a:gdLst/>
            <a:ahLst/>
            <a:rect l="l" t="t" r="r" b="b"/>
            <a:pathLst>
              <a:path w="385" h="2043">
                <a:moveTo>
                  <a:pt x="200" y="2043"/>
                </a:moveTo>
                <a:cubicBezTo>
                  <a:pt x="180" y="1983"/>
                  <a:pt x="162" y="1984"/>
                  <a:pt x="117" y="1930"/>
                </a:cubicBezTo>
                <a:cubicBezTo>
                  <a:pt x="98" y="1876"/>
                  <a:pt x="114" y="1893"/>
                  <a:pt x="79" y="1869"/>
                </a:cubicBezTo>
                <a:cubicBezTo>
                  <a:pt x="56" y="1834"/>
                  <a:pt x="47" y="1802"/>
                  <a:pt x="33" y="1763"/>
                </a:cubicBezTo>
                <a:cubicBezTo>
                  <a:pt x="31" y="1725"/>
                  <a:pt x="31" y="1687"/>
                  <a:pt x="26" y="1649"/>
                </a:cubicBezTo>
                <a:cubicBezTo>
                  <a:pt x="24" y="1633"/>
                  <a:pt x="11" y="1604"/>
                  <a:pt x="11" y="1604"/>
                </a:cubicBezTo>
                <a:cubicBezTo>
                  <a:pt x="13" y="1530"/>
                  <a:pt x="0" y="1340"/>
                  <a:pt x="56" y="1255"/>
                </a:cubicBezTo>
                <a:cubicBezTo>
                  <a:pt x="78" y="1153"/>
                  <a:pt x="49" y="1267"/>
                  <a:pt x="79" y="1194"/>
                </a:cubicBezTo>
                <a:cubicBezTo>
                  <a:pt x="89" y="1169"/>
                  <a:pt x="81" y="1164"/>
                  <a:pt x="94" y="1141"/>
                </a:cubicBezTo>
                <a:cubicBezTo>
                  <a:pt x="130" y="1001"/>
                  <a:pt x="259" y="493"/>
                  <a:pt x="295" y="354"/>
                </a:cubicBezTo>
                <a:cubicBezTo>
                  <a:pt x="303" y="340"/>
                  <a:pt x="302" y="318"/>
                  <a:pt x="311" y="305"/>
                </a:cubicBezTo>
                <a:cubicBezTo>
                  <a:pt x="323" y="287"/>
                  <a:pt x="311" y="316"/>
                  <a:pt x="328" y="305"/>
                </a:cubicBezTo>
                <a:cubicBezTo>
                  <a:pt x="333" y="297"/>
                  <a:pt x="332" y="263"/>
                  <a:pt x="336" y="255"/>
                </a:cubicBezTo>
                <a:cubicBezTo>
                  <a:pt x="340" y="248"/>
                  <a:pt x="365" y="139"/>
                  <a:pt x="369" y="132"/>
                </a:cubicBezTo>
                <a:cubicBezTo>
                  <a:pt x="382" y="111"/>
                  <a:pt x="385" y="27"/>
                  <a:pt x="385" y="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34120" y="3581280"/>
            <a:ext cx="160020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-169920" y="0"/>
            <a:ext cx="9469080" cy="6948000"/>
            <a:chOff x="-169920" y="0"/>
            <a:chExt cx="9469080" cy="6948000"/>
          </a:xfrm>
        </p:grpSpPr>
        <p:grpSp>
          <p:nvGrpSpPr>
            <p:cNvPr id="174" name="Group 3"/>
            <p:cNvGrpSpPr/>
            <p:nvPr/>
          </p:nvGrpSpPr>
          <p:grpSpPr>
            <a:xfrm>
              <a:off x="-169920" y="0"/>
              <a:ext cx="9469080" cy="6948000"/>
              <a:chOff x="-169920" y="0"/>
              <a:chExt cx="9469080" cy="6948000"/>
            </a:xfrm>
          </p:grpSpPr>
          <p:grpSp>
            <p:nvGrpSpPr>
              <p:cNvPr id="175" name="Group 4"/>
              <p:cNvGrpSpPr/>
              <p:nvPr/>
            </p:nvGrpSpPr>
            <p:grpSpPr>
              <a:xfrm>
                <a:off x="-115560" y="69840"/>
                <a:ext cx="9414720" cy="6878160"/>
                <a:chOff x="-115560" y="69840"/>
                <a:chExt cx="9414720" cy="6878160"/>
              </a:xfrm>
            </p:grpSpPr>
            <p:pic>
              <p:nvPicPr>
                <p:cNvPr id="176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-97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856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25840" y="4465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15560" y="2285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74760" y="233928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03160" y="2337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1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706800" y="44737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724800" y="227880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1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4800" y="698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1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-115560" y="9324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1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174760" y="12996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1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09640" y="139320"/>
                  <a:ext cx="2448720" cy="238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Rectangle 17"/>
                <p:cNvSpPr/>
                <p:nvPr/>
              </p:nvSpPr>
              <p:spPr>
                <a:xfrm>
                  <a:off x="-97560" y="6762600"/>
                  <a:ext cx="9396720" cy="185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Rectangle 18"/>
              <p:cNvSpPr/>
              <p:nvPr/>
            </p:nvSpPr>
            <p:spPr>
              <a:xfrm>
                <a:off x="-169920" y="0"/>
                <a:ext cx="9398520" cy="185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9"/>
            <p:cNvSpPr/>
            <p:nvPr/>
          </p:nvSpPr>
          <p:spPr>
            <a:xfrm>
              <a:off x="4638960" y="2013120"/>
              <a:ext cx="481320" cy="311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3"/>
          <p:cNvGrpSpPr/>
          <p:nvPr/>
        </p:nvGrpSpPr>
        <p:grpSpPr>
          <a:xfrm>
            <a:off x="2514600" y="2590920"/>
            <a:ext cx="5234760" cy="3118680"/>
            <a:chOff x="2514600" y="2590920"/>
            <a:chExt cx="5234760" cy="3118680"/>
          </a:xfrm>
        </p:grpSpPr>
        <p:sp>
          <p:nvSpPr>
            <p:cNvPr id="193" name="Rectangle 4"/>
            <p:cNvSpPr/>
            <p:nvPr/>
          </p:nvSpPr>
          <p:spPr>
            <a:xfrm>
              <a:off x="2514600" y="2590920"/>
              <a:ext cx="1968840" cy="255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 rot="1260000">
              <a:off x="4421880" y="4542120"/>
              <a:ext cx="3332520" cy="589680"/>
            </a:xfrm>
            <a:prstGeom prst="leftArrow">
              <a:avLst>
                <a:gd name="adj1" fmla="val 50000"/>
                <a:gd name="adj2" fmla="val 141285"/>
              </a:avLst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453960" y="27432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5400" y="198108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1676520" y="3200400"/>
            <a:ext cx="2057400" cy="144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2209680" y="2286000"/>
            <a:ext cx="1600200" cy="5335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124080" y="2590920"/>
            <a:ext cx="2895840" cy="1523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4800600" y="3886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203" name="Line 3"/>
          <p:cNvSpPr/>
          <p:nvPr/>
        </p:nvSpPr>
        <p:spPr>
          <a:xfrm>
            <a:off x="2209680" y="16002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733760" y="10778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Pico do Itacolomi</a:t>
            </a:r>
            <a:br>
              <a:rPr sz="1400"/>
            </a:b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88600" y="3049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 flipH="1">
            <a:off x="3795480" y="609480"/>
            <a:ext cx="942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3213000" y="2717640"/>
            <a:ext cx="1569960" cy="1847880"/>
          </a:xfrm>
          <a:custGeom>
            <a:avLst/>
            <a:gdLst/>
            <a:ahLst/>
            <a:rect l="l" t="t" r="r" b="b"/>
            <a:pathLst>
              <a:path w="989" h="1164">
                <a:moveTo>
                  <a:pt x="140" y="0"/>
                </a:moveTo>
                <a:cubicBezTo>
                  <a:pt x="168" y="26"/>
                  <a:pt x="176" y="10"/>
                  <a:pt x="189" y="49"/>
                </a:cubicBezTo>
                <a:cubicBezTo>
                  <a:pt x="186" y="174"/>
                  <a:pt x="267" y="434"/>
                  <a:pt x="91" y="477"/>
                </a:cubicBezTo>
                <a:cubicBezTo>
                  <a:pt x="72" y="495"/>
                  <a:pt x="52" y="508"/>
                  <a:pt x="33" y="526"/>
                </a:cubicBezTo>
                <a:cubicBezTo>
                  <a:pt x="22" y="562"/>
                  <a:pt x="9" y="597"/>
                  <a:pt x="0" y="633"/>
                </a:cubicBezTo>
                <a:cubicBezTo>
                  <a:pt x="3" y="659"/>
                  <a:pt x="7" y="788"/>
                  <a:pt x="25" y="806"/>
                </a:cubicBezTo>
                <a:cubicBezTo>
                  <a:pt x="31" y="812"/>
                  <a:pt x="42" y="811"/>
                  <a:pt x="50" y="814"/>
                </a:cubicBezTo>
                <a:cubicBezTo>
                  <a:pt x="59" y="824"/>
                  <a:pt x="110" y="885"/>
                  <a:pt x="115" y="888"/>
                </a:cubicBezTo>
                <a:cubicBezTo>
                  <a:pt x="140" y="905"/>
                  <a:pt x="166" y="961"/>
                  <a:pt x="198" y="971"/>
                </a:cubicBezTo>
                <a:cubicBezTo>
                  <a:pt x="235" y="994"/>
                  <a:pt x="293" y="1013"/>
                  <a:pt x="354" y="1028"/>
                </a:cubicBezTo>
                <a:cubicBezTo>
                  <a:pt x="399" y="1033"/>
                  <a:pt x="440" y="1003"/>
                  <a:pt x="469" y="1003"/>
                </a:cubicBezTo>
                <a:cubicBezTo>
                  <a:pt x="498" y="1003"/>
                  <a:pt x="494" y="1014"/>
                  <a:pt x="527" y="1028"/>
                </a:cubicBezTo>
                <a:cubicBezTo>
                  <a:pt x="598" y="1053"/>
                  <a:pt x="623" y="1079"/>
                  <a:pt x="667" y="1086"/>
                </a:cubicBezTo>
                <a:cubicBezTo>
                  <a:pt x="713" y="1109"/>
                  <a:pt x="765" y="1101"/>
                  <a:pt x="790" y="1102"/>
                </a:cubicBezTo>
                <a:cubicBezTo>
                  <a:pt x="822" y="1152"/>
                  <a:pt x="863" y="1134"/>
                  <a:pt x="922" y="1143"/>
                </a:cubicBezTo>
                <a:cubicBezTo>
                  <a:pt x="989" y="1164"/>
                  <a:pt x="944" y="1116"/>
                  <a:pt x="988" y="116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3809880" y="46483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1763640" y="4842000"/>
            <a:ext cx="7201080" cy="20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 rot="20760000">
            <a:off x="5163480" y="590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6153120" y="692280"/>
            <a:ext cx="298764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 rot="3240000">
            <a:off x="7451280" y="2270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1692360" y="68486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Line 3"/>
          <p:cNvSpPr/>
          <p:nvPr/>
        </p:nvSpPr>
        <p:spPr>
          <a:xfrm>
            <a:off x="914400" y="838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1066680" y="990720"/>
            <a:ext cx="1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4876920" y="12952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5029200" y="1066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6553080" y="12952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6781680" y="10666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748080" y="270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705720" y="1447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434520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326640" y="533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"/>
          <p:cNvSpPr/>
          <p:nvPr/>
        </p:nvSpPr>
        <p:spPr>
          <a:xfrm>
            <a:off x="1085760" y="2743200"/>
            <a:ext cx="2967120" cy="1406520"/>
          </a:xfrm>
          <a:custGeom>
            <a:avLst/>
            <a:gdLst/>
            <a:ahLst/>
            <a:rect l="l" t="t" r="r" b="b"/>
            <a:pathLst>
              <a:path w="1869" h="886">
                <a:moveTo>
                  <a:pt x="1345" y="0"/>
                </a:moveTo>
                <a:cubicBezTo>
                  <a:pt x="1389" y="3"/>
                  <a:pt x="1434" y="2"/>
                  <a:pt x="1478" y="9"/>
                </a:cubicBezTo>
                <a:cubicBezTo>
                  <a:pt x="1489" y="11"/>
                  <a:pt x="1497" y="19"/>
                  <a:pt x="1505" y="27"/>
                </a:cubicBezTo>
                <a:cubicBezTo>
                  <a:pt x="1513" y="34"/>
                  <a:pt x="1513" y="50"/>
                  <a:pt x="1523" y="53"/>
                </a:cubicBezTo>
                <a:cubicBezTo>
                  <a:pt x="1563" y="63"/>
                  <a:pt x="1606" y="59"/>
                  <a:pt x="1647" y="62"/>
                </a:cubicBezTo>
                <a:cubicBezTo>
                  <a:pt x="1693" y="78"/>
                  <a:pt x="1665" y="66"/>
                  <a:pt x="1726" y="106"/>
                </a:cubicBezTo>
                <a:cubicBezTo>
                  <a:pt x="1734" y="111"/>
                  <a:pt x="1783" y="122"/>
                  <a:pt x="1788" y="124"/>
                </a:cubicBezTo>
                <a:cubicBezTo>
                  <a:pt x="1806" y="130"/>
                  <a:pt x="1824" y="136"/>
                  <a:pt x="1842" y="142"/>
                </a:cubicBezTo>
                <a:cubicBezTo>
                  <a:pt x="1851" y="145"/>
                  <a:pt x="1868" y="151"/>
                  <a:pt x="1868" y="151"/>
                </a:cubicBezTo>
                <a:cubicBezTo>
                  <a:pt x="1860" y="266"/>
                  <a:pt x="1869" y="255"/>
                  <a:pt x="1833" y="328"/>
                </a:cubicBezTo>
                <a:cubicBezTo>
                  <a:pt x="1829" y="336"/>
                  <a:pt x="1831" y="349"/>
                  <a:pt x="1824" y="354"/>
                </a:cubicBezTo>
                <a:cubicBezTo>
                  <a:pt x="1799" y="372"/>
                  <a:pt x="1736" y="377"/>
                  <a:pt x="1709" y="381"/>
                </a:cubicBezTo>
                <a:cubicBezTo>
                  <a:pt x="1661" y="397"/>
                  <a:pt x="1616" y="421"/>
                  <a:pt x="1567" y="434"/>
                </a:cubicBezTo>
                <a:cubicBezTo>
                  <a:pt x="1522" y="464"/>
                  <a:pt x="1501" y="463"/>
                  <a:pt x="1443" y="470"/>
                </a:cubicBezTo>
                <a:cubicBezTo>
                  <a:pt x="1319" y="510"/>
                  <a:pt x="1409" y="486"/>
                  <a:pt x="1168" y="496"/>
                </a:cubicBezTo>
                <a:cubicBezTo>
                  <a:pt x="1107" y="512"/>
                  <a:pt x="1035" y="544"/>
                  <a:pt x="973" y="549"/>
                </a:cubicBezTo>
                <a:cubicBezTo>
                  <a:pt x="880" y="556"/>
                  <a:pt x="558" y="565"/>
                  <a:pt x="495" y="567"/>
                </a:cubicBezTo>
                <a:cubicBezTo>
                  <a:pt x="396" y="592"/>
                  <a:pt x="547" y="555"/>
                  <a:pt x="388" y="585"/>
                </a:cubicBezTo>
                <a:cubicBezTo>
                  <a:pt x="319" y="598"/>
                  <a:pt x="255" y="620"/>
                  <a:pt x="184" y="629"/>
                </a:cubicBezTo>
                <a:cubicBezTo>
                  <a:pt x="137" y="645"/>
                  <a:pt x="98" y="666"/>
                  <a:pt x="52" y="682"/>
                </a:cubicBezTo>
                <a:cubicBezTo>
                  <a:pt x="49" y="691"/>
                  <a:pt x="44" y="700"/>
                  <a:pt x="43" y="709"/>
                </a:cubicBezTo>
                <a:cubicBezTo>
                  <a:pt x="38" y="741"/>
                  <a:pt x="44" y="775"/>
                  <a:pt x="34" y="806"/>
                </a:cubicBezTo>
                <a:cubicBezTo>
                  <a:pt x="31" y="816"/>
                  <a:pt x="10" y="814"/>
                  <a:pt x="7" y="824"/>
                </a:cubicBezTo>
                <a:cubicBezTo>
                  <a:pt x="0" y="844"/>
                  <a:pt x="7" y="865"/>
                  <a:pt x="7" y="88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H="1">
            <a:off x="671400" y="5445000"/>
            <a:ext cx="819360" cy="12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84040" y="6424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6"/>
          <p:cNvSpPr/>
          <p:nvPr/>
        </p:nvSpPr>
        <p:spPr>
          <a:xfrm>
            <a:off x="1084320" y="4167360"/>
            <a:ext cx="1908000" cy="448920"/>
          </a:xfrm>
          <a:custGeom>
            <a:avLst/>
            <a:gdLst/>
            <a:ahLst/>
            <a:rect l="l" t="t" r="r" b="b"/>
            <a:pathLst>
              <a:path w="1202" h="283">
                <a:moveTo>
                  <a:pt x="0" y="0"/>
                </a:moveTo>
                <a:cubicBezTo>
                  <a:pt x="96" y="10"/>
                  <a:pt x="172" y="27"/>
                  <a:pt x="272" y="33"/>
                </a:cubicBezTo>
                <a:cubicBezTo>
                  <a:pt x="398" y="75"/>
                  <a:pt x="535" y="71"/>
                  <a:pt x="666" y="82"/>
                </a:cubicBezTo>
                <a:cubicBezTo>
                  <a:pt x="772" y="108"/>
                  <a:pt x="603" y="69"/>
                  <a:pt x="872" y="99"/>
                </a:cubicBezTo>
                <a:cubicBezTo>
                  <a:pt x="911" y="103"/>
                  <a:pt x="948" y="118"/>
                  <a:pt x="987" y="123"/>
                </a:cubicBezTo>
                <a:cubicBezTo>
                  <a:pt x="1004" y="129"/>
                  <a:pt x="1024" y="128"/>
                  <a:pt x="1037" y="140"/>
                </a:cubicBezTo>
                <a:cubicBezTo>
                  <a:pt x="1043" y="146"/>
                  <a:pt x="1039" y="158"/>
                  <a:pt x="1045" y="164"/>
                </a:cubicBezTo>
                <a:cubicBezTo>
                  <a:pt x="1065" y="184"/>
                  <a:pt x="1099" y="177"/>
                  <a:pt x="1127" y="181"/>
                </a:cubicBezTo>
                <a:cubicBezTo>
                  <a:pt x="1147" y="238"/>
                  <a:pt x="1128" y="224"/>
                  <a:pt x="1168" y="239"/>
                </a:cubicBezTo>
                <a:cubicBezTo>
                  <a:pt x="1174" y="244"/>
                  <a:pt x="1181" y="248"/>
                  <a:pt x="1185" y="255"/>
                </a:cubicBezTo>
                <a:cubicBezTo>
                  <a:pt x="1202" y="283"/>
                  <a:pt x="1182" y="280"/>
                  <a:pt x="1201" y="2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 flipH="1">
            <a:off x="1357200" y="152388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1729440" y="1077840"/>
            <a:ext cx="22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Pico do Itacolomi do I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 flipH="1">
            <a:off x="7088040" y="1817640"/>
            <a:ext cx="4096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7464240" y="13716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Serra do 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Pedro Andrade</cp:lastModifiedBy>
  <cp:lastPrinted>2012-10-26T17:22:49Z</cp:lastPrinted>
  <dcterms:modified xsi:type="dcterms:W3CDTF">2016-08-05T19:38:44Z</dcterms:modified>
  <cp:revision>391</cp:revision>
  <dc:subject/>
  <dc:title>Low-carbon growth in Brazil?</dc:title>
</cp:coreProperties>
</file>